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548-6F9B-41E0-8172-FBDC8147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165-93A0-45A9-A775-00C90550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B1E-D24F-4BE7-AE8A-29467CC6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EA8-BB0D-42A0-8B17-E77C16C1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31E-31A2-4A41-A52A-D76EC59A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1F6-CE3E-46C5-8703-D85B1A92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254-AB75-4DE3-AE36-EB57E08F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86F-FD16-4DB5-B804-9B900542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F1D-2B9A-41B6-A5CA-EA089E3C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17F-3AF7-424B-A254-AC80E21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EDA-37D5-49C7-9DE3-E4B9416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0A3-5BDA-4F84-AF85-65CABF00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fd13b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7fd13b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b2e389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5fa32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b2e389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5fa32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b2e389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7DF7A-E128-46B3-87E3-B94A499C6280}" type="datetime"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News Gothic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News Gothic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C8AAA-AB21-4C42-85C3-A7F54434B9B0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upto.ru/" TargetMode="External"/><Relationship Id="rId3" Type="http://schemas.openxmlformats.org/officeDocument/2006/relationships/hyperlink" Target="http://www.fips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43148-1263-4A56-9727-91281F3BEC8C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9640" y="1828800"/>
            <a:ext cx="79074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101"/>
                </a:solidFill>
                <a:latin typeface="Arial"/>
                <a:ea typeface="Arial"/>
              </a:rPr>
              <a:t>Obtaining Intellectual Property Legal Protection in Russia:</a:t>
            </a:r>
            <a:r>
              <a:rPr b="1" lang="ru-RU" sz="4800" spc="-1" strike="noStrike">
                <a:solidFill>
                  <a:srgbClr val="ff0101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101"/>
                </a:solidFill>
                <a:latin typeface="Arial"/>
                <a:ea typeface="Arial"/>
              </a:rPr>
              <a:t>the role of ROSPATENT</a:t>
            </a:r>
            <a:r>
              <a:rPr b="1" lang="ru-RU" sz="4800" spc="-1" strike="noStrike">
                <a:solidFill>
                  <a:srgbClr val="ff0101"/>
                </a:solidFill>
                <a:latin typeface="Arial"/>
                <a:ea typeface="Arial"/>
              </a:rPr>
              <a:t>.</a:t>
            </a:r>
            <a:r>
              <a:rPr b="1" lang="ru-RU" sz="6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953320" y="577692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Strelkov O.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ED4D9-F5E0-4AAF-88C9-CDAADA5567FE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1429560"/>
            <a:ext cx="9144000" cy="49111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b1903"/>
                </a:solidFill>
                <a:latin typeface="Arial"/>
                <a:ea typeface="Arial"/>
              </a:rPr>
              <a:t>The Industrial Design is granted legal protection if in its essential features it is novel and origi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 u="sng">
                <a:solidFill>
                  <a:srgbClr val="1701b7"/>
                </a:solidFill>
                <a:uFillTx/>
                <a:latin typeface="Arial"/>
                <a:ea typeface="Arial"/>
              </a:rPr>
              <a:t>The sources for information search within substantive examination</a:t>
            </a:r>
            <a:r>
              <a:rPr b="1" i="1" lang="ru-RU" sz="2000" spc="-1" strike="noStrike" u="sng">
                <a:solidFill>
                  <a:srgbClr val="1701b7"/>
                </a:solidFill>
                <a:uFillTx/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The Registers of Industrial Designs of the Russian Federation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The Bulletin of Industrial Designs registered in accordance with the Hague Agreement concerning the International deposit of industrial designs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- Hague Express Database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of International Industrial Designs registered since March, 1998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- RCD-ONLINE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 EU Industrial Designs search system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- Design consultation servic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Full texts of all US Industrial Design pat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Bulletins and databases of Industrial Designs from Japan, United Kingdom, Germany, Spain, France, China and other 30 count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29CEE-20CF-42EB-8297-1B7F603DF725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057320"/>
            <a:ext cx="9144000" cy="533700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 algn="ctr">
              <a:lnSpc>
                <a:spcPct val="100000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800" spc="-1" strike="noStrike">
                <a:solidFill>
                  <a:srgbClr val="eb1903"/>
                </a:solidFill>
                <a:latin typeface="Arial"/>
                <a:ea typeface="Arial"/>
              </a:rPr>
              <a:t>After taking a decision on the grant of a patent for Industrial Design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the Industrial Design is entered in the State Register of Industrial Designs.</a:t>
            </a: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the information on the patent grant is published in the Official Bulletin of Industrial Designs.</a:t>
            </a: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a patent of the Russian Federation for Industrial Design is issued to a patentholder. </a:t>
            </a: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ctr">
              <a:lnSpc>
                <a:spcPct val="100000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227604"/>
              </a:buClr>
              <a:buSzPct val="110000"/>
              <a:buFont typeface="Wingdings" charset="2"/>
              <a:buChar char="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i="1" lang="en-US" sz="2000" spc="-1" strike="noStrike">
                <a:solidFill>
                  <a:srgbClr val="227604"/>
                </a:solidFill>
                <a:latin typeface="Arial"/>
                <a:ea typeface="Arial"/>
              </a:rPr>
              <a:t>The maximum duration of the patenting procedure doesn’t exceed 10 months.</a:t>
            </a:r>
            <a:r>
              <a:rPr b="1" i="1" lang="ru-RU" sz="20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227604"/>
              </a:buClr>
              <a:buSzPct val="110000"/>
              <a:buFont typeface="Wingdings" charset="2"/>
              <a:buChar char="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i="1" lang="en-US" sz="2000" spc="-1" strike="noStrike">
                <a:solidFill>
                  <a:srgbClr val="227604"/>
                </a:solidFill>
                <a:latin typeface="Arial"/>
                <a:ea typeface="Arial"/>
              </a:rPr>
              <a:t>The filing of application, examination, registration of the industrial design and patent issue are subject to fees. </a:t>
            </a:r>
            <a:r>
              <a:rPr b="1" i="1" lang="ru-RU" sz="2000" spc="-1" strike="noStrike">
                <a:solidFill>
                  <a:srgbClr val="227604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227604"/>
              </a:buClr>
              <a:buSzPct val="110000"/>
              <a:buFont typeface="Wingdings" charset="2"/>
              <a:buChar char="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i="1" lang="en-US" sz="2000" spc="-1" strike="noStrike">
                <a:solidFill>
                  <a:srgbClr val="227604"/>
                </a:solidFill>
                <a:latin typeface="Arial"/>
                <a:ea typeface="Arial"/>
              </a:rPr>
              <a:t>The term of the industrial design patent is 15 years. This term may be renewed for another 10 years.</a:t>
            </a:r>
            <a:r>
              <a:rPr b="1" i="1" lang="ru-RU" sz="20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99C61-E796-4177-B903-9AC6D9FDB5E9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1378800"/>
            <a:ext cx="9144000" cy="519228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b1903"/>
                </a:solidFill>
                <a:latin typeface="Arial"/>
                <a:ea typeface="Arial"/>
              </a:rPr>
              <a:t>Legislative and enforceable Acts regulating the legal protection provision to Trademarks and Service marks</a:t>
            </a:r>
            <a:r>
              <a:rPr b="1" lang="ru-RU" sz="3200" spc="-1" strike="noStrike">
                <a:solidFill>
                  <a:srgbClr val="eb1903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1701b7"/>
                </a:solidFill>
                <a:latin typeface="Arial"/>
                <a:ea typeface="Arial"/>
              </a:rPr>
              <a:t>the Civil Code</a:t>
            </a:r>
            <a:r>
              <a:rPr b="1" lang="ru-RU" sz="3200" spc="-1" strike="noStrike">
                <a:solidFill>
                  <a:srgbClr val="1701b7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801"/>
              </a:spcBef>
              <a:buClr>
                <a:srgbClr val="1701b7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701b7"/>
                </a:solidFill>
                <a:latin typeface="Arial"/>
                <a:ea typeface="Arial"/>
              </a:rPr>
              <a:t>Guidelines for compilation, filing and consideration of the application for Trademark and Service mark registr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801"/>
              </a:spcBef>
              <a:buClr>
                <a:srgbClr val="1701b7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1701b7"/>
                </a:solidFill>
                <a:latin typeface="Arial"/>
                <a:ea typeface="Arial"/>
              </a:rPr>
              <a:t>Fee Provisions</a:t>
            </a:r>
            <a:r>
              <a:rPr b="1" lang="ru-RU" sz="3200" spc="-1" strike="noStrike">
                <a:solidFill>
                  <a:srgbClr val="1701b7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90235-17D7-4688-BF30-BBCDA583AC1B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1429560"/>
            <a:ext cx="9144000" cy="509076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b1903"/>
                </a:solidFill>
                <a:latin typeface="Arial"/>
                <a:ea typeface="Arial"/>
              </a:rPr>
              <a:t>In the Russian Federation the exclusive right to a trademark is provided to an applicant in a way of state registration by Rospat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3240">
              <a:lnSpc>
                <a:spcPct val="100000"/>
              </a:lnSpc>
              <a:spcBef>
                <a:spcPts val="2401"/>
              </a:spcBef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32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1701b7"/>
                </a:solidFill>
                <a:latin typeface="Arial"/>
                <a:ea typeface="Arial"/>
              </a:rPr>
              <a:t>The application to Rospatent is filed by a juridical entity or an individual entreprene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227604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227604"/>
                </a:solidFill>
                <a:latin typeface="Arial"/>
                <a:ea typeface="Arial"/>
              </a:rPr>
              <a:t>The application may be filed electronically, via mail, fax or through a correspondence reception of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3B28F-1A78-40E1-A434-4B2D03D448C9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949320"/>
            <a:ext cx="9144000" cy="570744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b1903"/>
                </a:solidFill>
                <a:latin typeface="Arial"/>
                <a:ea typeface="Arial"/>
              </a:rPr>
              <a:t>The application for a trademark registration should contai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1701b7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a request for registration</a:t>
            </a: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1701b7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a</a:t>
            </a: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claimed</a:t>
            </a: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sign</a:t>
            </a: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1701b7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a list of goods and services in which respect the trademark state registration is sought</a:t>
            </a: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1701b7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a description of the claimed sign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1701b7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a document confirming the payment of the application filing fe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1701b7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a charter of a collective mark (to be enclosed to a collective mark applica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E9FD3-D33E-4033-8151-9B78F514C5AF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784800"/>
            <a:ext cx="9144000" cy="585468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b1903"/>
                </a:solidFill>
                <a:latin typeface="Arial"/>
                <a:ea typeface="Arial"/>
              </a:rPr>
              <a:t>The Trademark application examination includes the formal examination and examination of a sign claimed as a tradema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eb1903"/>
                </a:solidFill>
                <a:uFillTx/>
                <a:latin typeface="Arial"/>
                <a:ea typeface="Arial"/>
              </a:rPr>
              <a:t>In the course of formal examination</a:t>
            </a:r>
            <a:r>
              <a:rPr b="1" lang="en-US" sz="1800" spc="-1" strike="noStrike">
                <a:solidFill>
                  <a:srgbClr val="eb1903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1701b7"/>
                </a:solidFill>
                <a:latin typeface="Arial"/>
                <a:ea typeface="Arial"/>
              </a:rPr>
              <a:t>the availability of necessary application documents and the compliance thereof with the established requirements are check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eb1903"/>
                </a:solidFill>
                <a:uFillTx/>
                <a:latin typeface="Arial"/>
                <a:ea typeface="Arial"/>
              </a:rPr>
              <a:t>In the course of examination of the claimed sign the following is undertaken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701b7"/>
                </a:solidFill>
                <a:latin typeface="Arial"/>
                <a:ea typeface="Arial"/>
              </a:rPr>
              <a:t>verification of the claimed list of goods and services, including the correctness of classification thereof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701b7"/>
                </a:solidFill>
                <a:latin typeface="Arial"/>
                <a:ea typeface="Arial"/>
              </a:rPr>
              <a:t>determining the trademark prior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701b7"/>
                </a:solidFill>
                <a:latin typeface="Arial"/>
                <a:ea typeface="Arial"/>
              </a:rPr>
              <a:t>verification of the claimed designation compliance with the conditions for registration set forth by the Civil Cod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eb1903"/>
                </a:solidFill>
                <a:uFillTx/>
                <a:latin typeface="Arial"/>
                <a:ea typeface="Arial"/>
              </a:rPr>
              <a:t>The verification of the claimed designation protectability includes: </a:t>
            </a:r>
            <a:r>
              <a:rPr b="1" lang="ru-RU" sz="18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346040">
              <a:lnSpc>
                <a:spcPct val="100000"/>
              </a:lnSpc>
              <a:buClr>
                <a:srgbClr val="227604"/>
              </a:buClr>
              <a:buSzPct val="110000"/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18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227604"/>
                </a:solidFill>
                <a:latin typeface="Arial"/>
                <a:ea typeface="Arial"/>
              </a:rPr>
              <a:t>search among trademarks protected on the territory of the Russian Federation and claimed for registration in respect of similar goods and servic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346040">
              <a:lnSpc>
                <a:spcPct val="100000"/>
              </a:lnSpc>
              <a:buClr>
                <a:srgbClr val="227604"/>
              </a:buClr>
              <a:buSzPct val="110000"/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18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227604"/>
                </a:solidFill>
                <a:latin typeface="Arial"/>
                <a:ea typeface="Arial"/>
              </a:rPr>
              <a:t>search results assessment with the view of revealing identical or confusingly similar trademarks having earlier priority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346040">
              <a:lnSpc>
                <a:spcPct val="100000"/>
              </a:lnSpc>
              <a:buClr>
                <a:srgbClr val="227604"/>
              </a:buClr>
              <a:buSzPct val="110000"/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18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227604"/>
                </a:solidFill>
                <a:latin typeface="Arial"/>
                <a:ea typeface="Arial"/>
              </a:rPr>
              <a:t>search through other information sources (reference-books, encyclopedias, periodicals, etc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A8E9A-EA25-4B9D-B813-6C88B071C7E7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1027800"/>
            <a:ext cx="9144000" cy="563112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b1903"/>
                </a:solidFill>
                <a:latin typeface="Arial"/>
                <a:ea typeface="Arial"/>
              </a:rPr>
              <a:t>The following designations can not be registered as trademark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1) </a:t>
            </a:r>
            <a:r>
              <a:rPr b="1" lang="en-US" sz="1400" spc="-1" strike="noStrike">
                <a:solidFill>
                  <a:srgbClr val="1701b7"/>
                </a:solidFill>
                <a:latin typeface="Arial"/>
                <a:ea typeface="Arial"/>
              </a:rPr>
              <a:t>those that do not  possess distinctive character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2) </a:t>
            </a:r>
            <a:r>
              <a:rPr b="1" lang="en-US" sz="1400" spc="-1" strike="noStrike">
                <a:solidFill>
                  <a:srgbClr val="1701b7"/>
                </a:solidFill>
                <a:latin typeface="Arial"/>
                <a:ea typeface="Arial"/>
              </a:rPr>
              <a:t>those that consist solely of elements tha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have fallen into public domain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are generally accepted symbols and terms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characterize goods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represent the configuration of goods that is determined exclusively by the properties or purpose of the goods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3) </a:t>
            </a:r>
            <a:r>
              <a:rPr b="1" lang="en-US" sz="1400" spc="-1" strike="noStrike">
                <a:solidFill>
                  <a:srgbClr val="1701b7"/>
                </a:solidFill>
                <a:latin typeface="Arial"/>
                <a:ea typeface="Arial"/>
              </a:rPr>
              <a:t>those that consist only of elements that ar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armorial bearings, flags, or other state symbols and</a:t>
            </a: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signs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abbreviations or full names of international and intergovernmental organizations, their armorial bearings, flags, or other symbols and signs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official signs or hallmarks of control and warranty, seals, awards, and other distinguishing signs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7604"/>
              </a:buClr>
              <a:buSzPct val="11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designations that are confusingly similar to the elements stated abov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4) </a:t>
            </a:r>
            <a:r>
              <a:rPr b="1" lang="en-US" sz="1400" spc="-1" strike="noStrike">
                <a:solidFill>
                  <a:srgbClr val="1701b7"/>
                </a:solidFill>
                <a:latin typeface="Arial"/>
                <a:ea typeface="Arial"/>
              </a:rPr>
              <a:t>those that are false or capable of misleading a consumer in respect of goods or their producer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5) </a:t>
            </a:r>
            <a:r>
              <a:rPr b="1" lang="en-US" sz="1400" spc="-1" strike="noStrike">
                <a:solidFill>
                  <a:srgbClr val="1701b7"/>
                </a:solidFill>
                <a:latin typeface="Arial"/>
                <a:ea typeface="Arial"/>
              </a:rPr>
              <a:t>those that are contrary to public interests, principles of humanity and morality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6) </a:t>
            </a:r>
            <a:r>
              <a:rPr b="1" lang="en-US" sz="1400" spc="-1" strike="noStrike">
                <a:solidFill>
                  <a:srgbClr val="1701b7"/>
                </a:solidFill>
                <a:latin typeface="Arial"/>
                <a:ea typeface="Arial"/>
              </a:rPr>
              <a:t>those that with respect to similar goods are identical or confusingly similar to: </a:t>
            </a: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trademarks of other persons having earlier priority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227604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227604"/>
                </a:solidFill>
                <a:latin typeface="Arial"/>
                <a:ea typeface="Arial"/>
              </a:rPr>
              <a:t>trademarks well-known in the Russian Federa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7) </a:t>
            </a:r>
            <a:r>
              <a:rPr b="1" lang="en-US" sz="1400" spc="-1" strike="noStrike">
                <a:solidFill>
                  <a:srgbClr val="1701b7"/>
                </a:solidFill>
                <a:latin typeface="Arial"/>
                <a:ea typeface="Arial"/>
              </a:rPr>
              <a:t>those that are identical or confusingly similar to the appellations of origin protected in the Russian Federation</a:t>
            </a:r>
            <a:r>
              <a:rPr b="1" lang="ru-RU" sz="1400" spc="-1" strike="noStrike">
                <a:solidFill>
                  <a:srgbClr val="1701b7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9D9B0-D962-47DD-9A66-B094E2E73285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1271880"/>
            <a:ext cx="9144000" cy="497592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b1903"/>
                </a:solidFill>
                <a:latin typeface="Arial"/>
                <a:ea typeface="Arial"/>
              </a:rPr>
              <a:t>The decision on a trademark registration is taken by Rospatent subject to the claimed designation meets the established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b1903"/>
                </a:solidFill>
                <a:latin typeface="Arial"/>
                <a:ea typeface="Arial"/>
              </a:rPr>
              <a:t>Rospatent, after the payment of an appropriate fee for trademark registration and issuance of a certificate</a:t>
            </a:r>
            <a:r>
              <a:rPr b="1" lang="ru-RU" sz="2400" spc="-1" strike="noStrike">
                <a:solidFill>
                  <a:srgbClr val="eb1903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enters the trademark in the State Register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issues a trademark registration certifica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publishes the registration data in the Official Bulletin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27604"/>
                </a:solidFill>
                <a:latin typeface="Arial"/>
                <a:ea typeface="Arial"/>
              </a:rPr>
              <a:t>The exclusive right to a trademark is valid within ten years since application filing with Rospatent. </a:t>
            </a:r>
            <a:r>
              <a:rPr b="1" i="1" lang="ru-RU" sz="1600" spc="-1" strike="noStrike">
                <a:solidFill>
                  <a:srgbClr val="227604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27604"/>
                </a:solidFill>
                <a:latin typeface="Arial"/>
                <a:ea typeface="Arial"/>
              </a:rPr>
              <a:t>Such term may be renewed for ten years at the applicant’s request filed within the last year of such right valid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3DF9D-BC3B-41CD-BED5-E400A0DE4C38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1272960"/>
            <a:ext cx="9144000" cy="344556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eb1903"/>
                </a:solidFill>
                <a:latin typeface="Arial"/>
                <a:ea typeface="Arial"/>
              </a:rPr>
              <a:t>The Regulations</a:t>
            </a:r>
            <a:r>
              <a:rPr b="1" lang="en-US" sz="2600" spc="-1" strike="noStrike">
                <a:solidFill>
                  <a:srgbClr val="1701b7"/>
                </a:solidFill>
                <a:latin typeface="Arial"/>
                <a:ea typeface="Arial"/>
              </a:rPr>
              <a:t> concerning the Industrial Design patenting and obtaining trademark legal protection are published on </a:t>
            </a:r>
            <a:r>
              <a:rPr b="1" lang="en-US" sz="2600" spc="-1" strike="noStrike">
                <a:solidFill>
                  <a:srgbClr val="eb1903"/>
                </a:solidFill>
                <a:latin typeface="Arial"/>
                <a:ea typeface="Arial"/>
              </a:rPr>
              <a:t>Rospatent and FIPS Internet web-sites: </a:t>
            </a:r>
            <a:r>
              <a:rPr b="1" lang="ru-RU" sz="2600" spc="-1" strike="noStrike">
                <a:solidFill>
                  <a:srgbClr val="eb1903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Arial"/>
                <a:ea typeface="Arial"/>
                <a:hlinkClick r:id="rId2"/>
              </a:rPr>
              <a:t>www.rupto.ru</a:t>
            </a:r>
            <a:r>
              <a:rPr b="1" lang="en-US" sz="2600" spc="-1" strike="noStrike">
                <a:solidFill>
                  <a:srgbClr val="eb1903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Arial"/>
                <a:ea typeface="Arial"/>
                <a:hlinkClick r:id="rId3"/>
              </a:rPr>
              <a:t>www.fips.ru</a:t>
            </a:r>
            <a:r>
              <a:rPr b="1" lang="ru-RU" sz="2600" spc="-1" strike="noStrike">
                <a:solidFill>
                  <a:srgbClr val="eb1903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eb1903"/>
                </a:solidFill>
                <a:latin typeface="Arial"/>
                <a:ea typeface="Arial"/>
              </a:rPr>
              <a:t>Thank you for your attention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31796-00A2-4BFA-8E53-FE14E405D398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1405080"/>
            <a:ext cx="9144000" cy="513828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30d1d"/>
                </a:solidFill>
                <a:latin typeface="Arial"/>
                <a:ea typeface="Arial"/>
              </a:rPr>
              <a:t>Legislative and Enforceable Acts regulating the procedure of legal protection provis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33cc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the Civil Code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  <a:ea typeface="Arial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33cc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33cc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Administrative Regulations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  <a:ea typeface="Arial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33cc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33cc"/>
              </a:buClr>
              <a:buSzPct val="11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Fee Provisions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34960-CB37-477C-BE24-4B6F17B6FCBE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1208880"/>
            <a:ext cx="9144000" cy="513900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30d1d"/>
                </a:solidFill>
                <a:latin typeface="Arial"/>
                <a:ea typeface="Arial"/>
              </a:rPr>
              <a:t>The Civil Code sets forth that the Industrial Design is a styling and engineering solution defining the product outward appearance</a:t>
            </a:r>
            <a:r>
              <a:rPr b="1" lang="ru-RU" sz="2800" spc="-1" strike="noStrike">
                <a:solidFill>
                  <a:srgbClr val="f30d1d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101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101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0101"/>
                </a:solidFill>
                <a:latin typeface="Arial"/>
                <a:ea typeface="Arial"/>
              </a:rPr>
              <a:t>P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  <a:ea typeface="Arial"/>
              </a:rPr>
              <a:t>roducts - 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any produce of industrial or artisanal and handicraft manufacture. These may be packages, labels, independent parts and composite produ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01b7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101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101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  <a:ea typeface="Arial"/>
              </a:rPr>
              <a:t>Composite products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are products consisting of components intended for assembling a composite product. For example, a motor vehicle. A composite product can be disassembled and re-assemble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01b7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101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101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  <a:ea typeface="Arial"/>
              </a:rPr>
              <a:t>Independent product components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are independent parts visible within normal product operation, in particular, drawings, graphic symbols and logos applied onto a product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1BDC5-6569-4EF1-817C-AFF3B356DCB0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222200"/>
            <a:ext cx="9144000" cy="550548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101"/>
                </a:solidFill>
                <a:latin typeface="Arial"/>
                <a:ea typeface="Arial"/>
              </a:rPr>
              <a:t>A set of documents to support Industrial Design application</a:t>
            </a:r>
            <a:r>
              <a:rPr b="1" lang="ru-RU" sz="3600" spc="-1" strike="noStrike">
                <a:solidFill>
                  <a:srgbClr val="ff0101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01b7"/>
                </a:solidFill>
                <a:latin typeface="Arial"/>
                <a:ea typeface="Arial"/>
              </a:rPr>
              <a:t>1) </a:t>
            </a:r>
            <a:r>
              <a:rPr b="1" lang="en-US" sz="3600" spc="-1" strike="noStrike">
                <a:solidFill>
                  <a:srgbClr val="1701b7"/>
                </a:solidFill>
                <a:latin typeface="Arial"/>
                <a:ea typeface="Arial"/>
              </a:rPr>
              <a:t>a request for</a:t>
            </a:r>
            <a:r>
              <a:rPr b="1" lang="ru-RU" sz="36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1701b7"/>
                </a:solidFill>
                <a:latin typeface="Arial"/>
                <a:ea typeface="Arial"/>
              </a:rPr>
              <a:t>the grant of a patent</a:t>
            </a:r>
            <a:r>
              <a:rPr b="1" lang="ru-RU" sz="3600" spc="-1" strike="noStrike">
                <a:solidFill>
                  <a:srgbClr val="1701b7"/>
                </a:solidFill>
                <a:latin typeface="Arial"/>
                <a:ea typeface="Arial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01b7"/>
                </a:solidFill>
                <a:latin typeface="Arial"/>
                <a:ea typeface="Arial"/>
              </a:rPr>
              <a:t>2) </a:t>
            </a:r>
            <a:r>
              <a:rPr b="1" lang="en-US" sz="3600" spc="-1" strike="noStrike">
                <a:solidFill>
                  <a:srgbClr val="1701b7"/>
                </a:solidFill>
                <a:latin typeface="Arial"/>
                <a:ea typeface="Arial"/>
              </a:rPr>
              <a:t>a set of representations of the product giving a full perception of the product outward appearanc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01b7"/>
                </a:solidFill>
                <a:latin typeface="Arial"/>
                <a:ea typeface="Arial"/>
              </a:rPr>
              <a:t>3) </a:t>
            </a:r>
            <a:r>
              <a:rPr b="1" lang="en-US" sz="3600" spc="-1" strike="noStrike">
                <a:solidFill>
                  <a:srgbClr val="1701b7"/>
                </a:solidFill>
                <a:latin typeface="Arial"/>
                <a:ea typeface="Arial"/>
              </a:rPr>
              <a:t>description</a:t>
            </a:r>
            <a:r>
              <a:rPr b="1" lang="ru-RU" sz="3600" spc="-1" strike="noStrike">
                <a:solidFill>
                  <a:srgbClr val="1701b7"/>
                </a:solidFill>
                <a:latin typeface="Arial"/>
                <a:ea typeface="Arial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01b7"/>
                </a:solidFill>
                <a:latin typeface="Arial"/>
                <a:ea typeface="Arial"/>
              </a:rPr>
              <a:t>4) </a:t>
            </a:r>
            <a:r>
              <a:rPr b="1" lang="en-US" sz="3600" spc="-1" strike="noStrike">
                <a:solidFill>
                  <a:srgbClr val="1701b7"/>
                </a:solidFill>
                <a:latin typeface="Arial"/>
                <a:ea typeface="Arial"/>
              </a:rPr>
              <a:t>a list of essential features</a:t>
            </a:r>
            <a:r>
              <a:rPr b="1" lang="ru-RU" sz="3600" spc="-1" strike="noStrike">
                <a:solidFill>
                  <a:srgbClr val="1701b7"/>
                </a:solidFill>
                <a:latin typeface="Arial"/>
                <a:ea typeface="Arial"/>
              </a:rPr>
              <a:t>.</a:t>
            </a:r>
            <a:r>
              <a:rPr b="0" lang="ru-RU" sz="36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61223-88F5-4FCC-9C15-6CC43D4D8933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1402560"/>
            <a:ext cx="9144000" cy="514656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101"/>
                </a:solidFill>
                <a:latin typeface="Arial"/>
                <a:ea typeface="Arial"/>
              </a:rPr>
              <a:t>The application for Industrial Design is filed with Rospatent by a person who is entitled to obtain a patent (applicant)</a:t>
            </a:r>
            <a:r>
              <a:rPr b="1" lang="ru-RU" sz="2800" spc="-1" strike="noStrike">
                <a:solidFill>
                  <a:srgbClr val="ff0101"/>
                </a:solidFill>
                <a:latin typeface="Arial"/>
                <a:ea typeface="Arial"/>
              </a:rPr>
              <a:t>.</a:t>
            </a:r>
            <a:r>
              <a:rPr b="1" lang="ru-RU" sz="8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227604"/>
                </a:solidFill>
                <a:uFillTx/>
                <a:latin typeface="Arial"/>
                <a:ea typeface="Arial"/>
              </a:rPr>
              <a:t>A person entitled to obtain a patent may b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an author (designer)</a:t>
            </a: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an employer, if the industrial design has been created by the author within exercising the professional duti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a customer, if the industrial design has been created on ord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the Russian Federation, if the industrial design has been created under a State Contract</a:t>
            </a: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56437-0179-458F-B9C8-FDCAE08338B4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1200960"/>
            <a:ext cx="9144000" cy="501912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b1903"/>
                </a:solidFill>
                <a:latin typeface="Arial"/>
                <a:ea typeface="Arial"/>
              </a:rPr>
              <a:t>The Industrial Design Unity Requirement</a:t>
            </a:r>
            <a:r>
              <a:rPr b="1" lang="ru-RU" sz="2800" spc="-1" strike="noStrike">
                <a:solidFill>
                  <a:srgbClr val="eb1903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The Industrial Design application should relate to a single industrial design, or a group of industrial designs so linked as to form a single design concept.</a:t>
            </a: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One application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1701b7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may combine the industrial design alternatives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, </a:t>
            </a:r>
            <a:r>
              <a:rPr b="1" i="1" lang="en-US" sz="2000" spc="-1" strike="noStrike">
                <a:solidFill>
                  <a:srgbClr val="227604"/>
                </a:solidFill>
                <a:latin typeface="Arial"/>
                <a:ea typeface="Arial"/>
              </a:rPr>
              <a:t>for example, several alternatives of a solution for a label outward appearance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1701b7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may combine the industrial designs related to the outward appearance of the product in whole and the outward appearance of a part of the product,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227604"/>
                </a:solidFill>
                <a:latin typeface="Arial"/>
                <a:ea typeface="Arial"/>
              </a:rPr>
              <a:t>for example, to the outward appearance of a motor vehicle in whole and to a bumper thereof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1701b7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01b7"/>
                </a:solidFill>
                <a:latin typeface="Arial"/>
                <a:ea typeface="Arial"/>
              </a:rPr>
              <a:t>may claim a set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, </a:t>
            </a:r>
            <a:r>
              <a:rPr b="1" i="1" lang="en-US" sz="2000" spc="-1" strike="noStrike">
                <a:solidFill>
                  <a:srgbClr val="227604"/>
                </a:solidFill>
                <a:latin typeface="Arial"/>
                <a:ea typeface="Arial"/>
              </a:rPr>
              <a:t>for example a tea set, or a furniture set</a:t>
            </a:r>
            <a:r>
              <a:rPr b="1" i="1" lang="ru-RU" sz="2000" spc="-1" strike="noStrike">
                <a:solidFill>
                  <a:srgbClr val="227604"/>
                </a:solidFill>
                <a:latin typeface="Arial"/>
                <a:ea typeface="Arial"/>
              </a:rPr>
              <a:t>.</a:t>
            </a:r>
            <a:r>
              <a:rPr b="1" lang="ru-RU" sz="2000" spc="-1" strike="noStrike">
                <a:solidFill>
                  <a:srgbClr val="1701b7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b1903"/>
                </a:solidFill>
                <a:latin typeface="Arial"/>
                <a:ea typeface="Arial"/>
              </a:rPr>
              <a:t>The number of combined industrial designs is not limited, but such number affects the fee amou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5B2AC-765F-45A9-A439-4ED05FFA1507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1395360"/>
            <a:ext cx="9144000" cy="516060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en-US" sz="2800" spc="-1" strike="noStrike">
                <a:solidFill>
                  <a:srgbClr val="eb1903"/>
                </a:solidFill>
                <a:latin typeface="Arial"/>
                <a:ea typeface="Arial"/>
              </a:rPr>
              <a:t>The stages of examination of the Industrial Design application filed with Rospa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1.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Application formal examination</a:t>
            </a: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i="1" lang="en-US" sz="2800" spc="-1" strike="noStrike">
                <a:solidFill>
                  <a:srgbClr val="227604"/>
                </a:solidFill>
                <a:latin typeface="Arial"/>
                <a:ea typeface="Arial"/>
              </a:rPr>
              <a:t>The availability of all necessary documents and the compliance thereof with the established requirements are chec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2. </a:t>
            </a:r>
            <a:r>
              <a:rPr b="1" lang="en-US" sz="2800" spc="-1" strike="noStrike">
                <a:solidFill>
                  <a:srgbClr val="1701b7"/>
                </a:solidFill>
                <a:latin typeface="Arial"/>
                <a:ea typeface="Arial"/>
              </a:rPr>
              <a:t>Application substantive examination</a:t>
            </a:r>
            <a:r>
              <a:rPr b="1" lang="ru-RU" sz="2800" spc="-1" strike="noStrike">
                <a:solidFill>
                  <a:srgbClr val="1701b7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i="1" lang="en-US" sz="2800" spc="-1" strike="noStrike">
                <a:solidFill>
                  <a:srgbClr val="227604"/>
                </a:solidFill>
                <a:latin typeface="Arial"/>
                <a:ea typeface="Arial"/>
              </a:rPr>
              <a:t>The information search and the compliance of the claimed industrial design with the established patentability criteria are carried out and checked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519B5-F3AA-44FA-ADFC-3E8937BDF38D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1098360"/>
            <a:ext cx="9144000" cy="5304240"/>
          </a:xfrm>
          <a:prstGeom prst="rect">
            <a:avLst/>
          </a:prstGeom>
          <a:gradFill rotWithShape="0">
            <a:gsLst>
              <a:gs pos="0">
                <a:srgbClr val="9ecdd2">
                  <a:alpha val="63137"/>
                </a:srgbClr>
              </a:gs>
              <a:gs pos="100000">
                <a:srgbClr val="ffff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b1903"/>
                </a:solidFill>
                <a:latin typeface="Arial"/>
                <a:ea typeface="Arial"/>
              </a:rPr>
              <a:t>The following Industrial Designs are not protectable in the Russian Federation</a:t>
            </a:r>
            <a:r>
              <a:rPr b="1" lang="ru-RU" sz="2800" spc="-1" strike="noStrike">
                <a:solidFill>
                  <a:srgbClr val="eb1903"/>
                </a:solidFill>
                <a:latin typeface="Arial"/>
                <a:ea typeface="Arial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701b7"/>
                </a:solidFill>
                <a:latin typeface="Arial"/>
                <a:ea typeface="Arial"/>
              </a:rPr>
              <a:t>Those that contain State secret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701b7"/>
                </a:solidFill>
                <a:latin typeface="Arial"/>
                <a:ea typeface="Arial"/>
              </a:rPr>
              <a:t>Those that are contrary to public interests, principles of humanity and morality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701b7"/>
                </a:solidFill>
                <a:latin typeface="Arial"/>
                <a:ea typeface="Arial"/>
              </a:rPr>
              <a:t>Those that are determined exclusively by the product technical featur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701b7"/>
                </a:solidFill>
                <a:latin typeface="Arial"/>
                <a:ea typeface="Arial"/>
              </a:rPr>
              <a:t>Those that relate to the works of architecture (except for minor architectural forms); </a:t>
            </a:r>
            <a:r>
              <a:rPr b="1" lang="ru-RU" sz="2200" spc="-1" strike="noStrike">
                <a:solidFill>
                  <a:srgbClr val="1701b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701b7"/>
                </a:solidFill>
                <a:latin typeface="Arial"/>
                <a:ea typeface="Arial"/>
              </a:rPr>
              <a:t>Those that relate to industrial, hydro-engineering and other permanent constructions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701b7"/>
                </a:solidFill>
                <a:latin typeface="Arial"/>
                <a:ea typeface="Arial"/>
              </a:rPr>
              <a:t>Those that relate to the objects of unstable form of liquid, gaseous, loose and similar substances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01b7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701b7"/>
                </a:solidFill>
                <a:latin typeface="Arial"/>
                <a:ea typeface="Arial"/>
              </a:rPr>
              <a:t>Those that may mislead the user in respect of the producer and/or place of manufacture of the product or go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9BE66-A755-4AD4-ACE6-F48EF7599549}" type="slidenum">
              <a:rPr b="0" lang="en-US" sz="3600" spc="-1" strike="noStrike">
                <a:solidFill>
                  <a:srgbClr val="000000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907920"/>
            <a:ext cx="9144000" cy="40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b1903"/>
                </a:solidFill>
                <a:latin typeface="Arial"/>
                <a:ea typeface="Arial"/>
              </a:rPr>
              <a:t>The misleading Industrial Designs may, in particular, be the designs that comprise: </a:t>
            </a:r>
            <a:r>
              <a:rPr b="1" lang="ru-RU" sz="2800" spc="-1" strike="noStrike">
                <a:solidFill>
                  <a:srgbClr val="eb1903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national and international symbol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trademarks, appellations of origin, brand-names, commercial names which rights do not pertain to the applica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701b7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1701b7"/>
                </a:solidFill>
                <a:latin typeface="Arial"/>
                <a:ea typeface="Arial"/>
              </a:rPr>
              <a:t>designations protected under international agreement of the Russian Federation and which make it possible to identify wines or spirit drinks as originating from a specific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08:03:35Z</dcterms:created>
  <dc:creator>Natalya</dc:creator>
  <dc:description/>
  <dc:language>en-US</dc:language>
  <cp:lastModifiedBy>rospat037</cp:lastModifiedBy>
  <dcterms:modified xsi:type="dcterms:W3CDTF">2013-04-26T13:53:22Z</dcterms:modified>
  <cp:revision>195</cp:revision>
  <dc:subject/>
  <dc:title>Slide 1</dc:title>
</cp:coreProperties>
</file>